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C62-9B60-4392-84CB-A543A31B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D22-738D-4A44-A8AB-DD53E1D1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148-404E-41C2-8C1A-8BBF9631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06F-D180-48FB-BB98-CD34FA30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0CA1-D1DE-4D03-B715-925ADE18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9006-2D81-4212-992E-CEDBB0ED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0B2B-E39A-495F-B0DB-9B442657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21F1-543B-4205-AB6B-219294E8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7F9C-5D51-4024-8101-1F83F156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3772-7A54-452C-BCF3-6620B857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AC3C-8936-4AC3-99D7-87E9982F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1C7-62CA-43B8-8E60-6A25355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BD7F-F0A7-46CC-BD5B-609099D6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2A4B-F886-4018-8278-2B81E60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6B45-3715-45EA-BFF9-02FD0704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6E1A-0282-4589-A288-9B7024F4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41CB-E1F5-4379-8A94-22A854C9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CF7-FAFE-4648-A0CF-1B17DD7A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39B-3696-4837-8AA6-C1EE591F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059-DF54-4431-A450-D537F417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0C4-7D95-47FD-AB07-2171504D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1F5-7D39-48F8-9338-00FCE754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875-66B8-4FF5-8C02-AB90832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2DC-EBF6-4F2A-893E-CF754E17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1C90-DC82-42AC-B54A-9FA728D392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F1EC-6356-47F3-89AB-99C108BDFD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 Remnant Shall Retur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er 8, Lesson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s 102 –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h. 4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52560"/>
            <a:ext cx="8229600" cy="6752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276720" y="1295280"/>
            <a:ext cx="2257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 are her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781680" y="16765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666880"/>
            <a:ext cx="1143000" cy="1143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e1"/>
                </a:solidFill>
                <a:latin typeface="Times New Roman"/>
              </a:rPr>
              <a:t>Nehemiah’s Troubles In Rebuilding the Wal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1"/>
                </a:solidFill>
                <a:latin typeface="Arial"/>
              </a:rPr>
              <a:t>Overcoming Ridicule – 4: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1"/>
                </a:solidFill>
                <a:latin typeface="Arial"/>
              </a:rPr>
              <a:t>Conspiracy to stop the work – 4:7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1"/>
                </a:solidFill>
                <a:latin typeface="Arial"/>
              </a:rPr>
              <a:t>Discouragement – 4: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1"/>
                </a:solidFill>
                <a:latin typeface="Arial"/>
              </a:rPr>
              <a:t>Intimidation – 4:11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e1"/>
                </a:solidFill>
                <a:latin typeface="Times New Roman"/>
              </a:rPr>
              <a:t>Internal Strif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1"/>
                </a:solidFill>
                <a:latin typeface="Arial"/>
              </a:rPr>
              <a:t>The problem of wealthy usury of the poor – 5:1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e1"/>
                </a:solidFill>
                <a:latin typeface="Arial"/>
              </a:rPr>
              <a:t>Ruthlessness – 5:1-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e1"/>
                </a:solidFill>
                <a:latin typeface="Arial"/>
              </a:rPr>
              <a:t>Reprimand – 5:6-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e1"/>
                </a:solidFill>
                <a:latin typeface="Arial"/>
              </a:rPr>
              <a:t>Repentance – 5:12-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e1"/>
                </a:solidFill>
                <a:latin typeface="Arial"/>
              </a:rPr>
              <a:t>Role Model in Nehemiah – 5:14-1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e1"/>
                </a:solidFill>
                <a:latin typeface="Times New Roman"/>
              </a:rPr>
              <a:t>Without and With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Nehemiah’s enemies seek to entrap him – 6:1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Constant fraternizing with the enemy on the part of some – 6:17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Nehemiah appoints men to govern Jerusalem – 7: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The people of the first return are reckoned by genealogy – 7:5-73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The Feast of Tabernacles is observed – 7:73b – 8: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1"/>
                </a:solidFill>
                <a:latin typeface="Arial"/>
              </a:rPr>
              <a:t>A public confession of sin and a renewal of the covenant – 9:1 -10: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e1"/>
                </a:solidFill>
                <a:latin typeface="Times New Roman"/>
              </a:rPr>
              <a:t>Without and With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The inhabitants of Jerusalem and other cities – 11:1 – 12: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The walls of Jerusalem are dedicated – 12:27-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Nehemiah cancels Eliashib’s hospitality to Tobiah – 13:1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Nehemiah restores the contributions for the support of the Levites – 13:10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Nehemiah stopped those who were breaking the Sabbath – 13:15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33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e1"/>
                </a:solidFill>
                <a:latin typeface="Times New Roman"/>
              </a:rPr>
              <a:t>Without and With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1"/>
                </a:solidFill>
                <a:latin typeface="Arial"/>
              </a:rPr>
              <a:t>Nehemiah deals with mixed marriages – 13:23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2:54:35Z</dcterms:created>
  <dc:creator>Terry W. Benton</dc:creator>
  <dc:description/>
  <dc:language>en-US</dc:language>
  <cp:lastModifiedBy>Frank D Vines</cp:lastModifiedBy>
  <dcterms:modified xsi:type="dcterms:W3CDTF">2006-05-29T01:16:36Z</dcterms:modified>
  <cp:revision>6</cp:revision>
  <dc:subject/>
  <dc:title>A Remnant Shall Return</dc:title>
</cp:coreProperties>
</file>